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504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3882960" y="-360"/>
            <a:ext cx="297504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520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915840" y="4724280"/>
            <a:ext cx="5026320" cy="44769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5"/>
          </p:nvPr>
        </p:nvSpPr>
        <p:spPr>
          <a:xfrm>
            <a:off x="0" y="9448920"/>
            <a:ext cx="2975040" cy="4982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6"/>
          </p:nvPr>
        </p:nvSpPr>
        <p:spPr>
          <a:xfrm>
            <a:off x="3882960" y="9448920"/>
            <a:ext cx="2975040" cy="4982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A61FAEE-C6B5-4405-878A-B64D530FF3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2960" y="9448920"/>
            <a:ext cx="2975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7D22F0C-5BAA-4F96-93A3-F98E9349F3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5840" y="4724280"/>
            <a:ext cx="502632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2960" y="9448920"/>
            <a:ext cx="2975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409F871-D393-4F64-9AE0-54BD3D7E45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2960" y="9448920"/>
            <a:ext cx="2975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A0F4C45-96C5-44B7-BCD9-4C531E3EBB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5840" y="4724280"/>
            <a:ext cx="502632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2960" y="9448920"/>
            <a:ext cx="2975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F17DA8B-8D72-4D06-866E-1EE3FFEA98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5840" y="4724280"/>
            <a:ext cx="502632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2960" y="9448920"/>
            <a:ext cx="2975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C3422C3-0128-4251-88F4-C654AC8776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2960" y="9448920"/>
            <a:ext cx="2975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31E0E77-6805-4855-B9F5-DE48992A6F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2960" y="9448920"/>
            <a:ext cx="2975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262BA23-F906-4C76-A49D-058CB54400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2960" y="9448920"/>
            <a:ext cx="2975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5A456CE-A61A-4D0F-879A-02C801B4EF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5840" y="4724280"/>
            <a:ext cx="502632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F2DD-D2F6-4756-9C2D-70768A18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C12E-C0C4-412B-BC23-12A70495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BAF9-9E7F-43FC-A4BB-E28B340C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69FB-B423-47E0-95CD-F4D544CB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F2A-678D-4C3F-A6E4-5664DD5E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65F7-3EFC-490D-AD94-51C949E4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F283-F176-4064-8BA8-E49E5B52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275C-5EA2-4626-B2E4-A960BD69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8FD8-8C7A-43EE-ACA9-BF65F4CF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332C-F603-4516-8468-6FBF3227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2418-F083-484B-8B88-F37480C1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EF8B-215A-418C-A052-2F13D309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4"/>
          <p:cNvSpPr/>
          <p:nvPr/>
        </p:nvSpPr>
        <p:spPr>
          <a:xfrm>
            <a:off x="5772240" y="6261120"/>
            <a:ext cx="28764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25"/>
          <p:cNvSpPr/>
          <p:nvPr/>
        </p:nvSpPr>
        <p:spPr>
          <a:xfrm>
            <a:off x="-1219320" y="-609480"/>
            <a:ext cx="2438640" cy="807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41" y="1988"/>
                  <a:pt x="11081" y="5080"/>
                  <a:pt x="11081" y="10800"/>
                </a:cubicBezTo>
                <a:cubicBezTo>
                  <a:pt x="11081" y="16520"/>
                  <a:pt x="16341" y="1961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ts val="2699"/>
              </a:lnSpc>
              <a:spcAft>
                <a:spcPts val="1301"/>
              </a:spcAft>
              <a:buClr>
                <a:srgbClr val="1e6e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9" descr="TI Logo wide ppt"/>
          <p:cNvPicPr/>
          <p:nvPr/>
        </p:nvPicPr>
        <p:blipFill>
          <a:blip r:embed="rId2"/>
          <a:stretch/>
        </p:blipFill>
        <p:spPr>
          <a:xfrm>
            <a:off x="7451640" y="260280"/>
            <a:ext cx="146844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8478-7B02-4970-8D33-2A79BA404B15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ts val="2699"/>
              </a:lnSpc>
              <a:spcAft>
                <a:spcPts val="1301"/>
              </a:spcAft>
              <a:buClr>
                <a:srgbClr val="1e6e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ransparentnost.org.rs/" TargetMode="External"/><Relationship Id="rId2" Type="http://schemas.openxmlformats.org/officeDocument/2006/relationships/hyperlink" Target="http://www.transparentnost.org.rs/" TargetMode="External"/><Relationship Id="rId3" Type="http://schemas.openxmlformats.org/officeDocument/2006/relationships/hyperlink" Target="http://www.transparency.org/research/cpi/overview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-1219320" y="-609480"/>
            <a:ext cx="2438640" cy="807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41" y="1988"/>
                  <a:pt x="11081" y="5080"/>
                  <a:pt x="11081" y="10800"/>
                </a:cubicBezTo>
                <a:cubicBezTo>
                  <a:pt x="11081" y="16520"/>
                  <a:pt x="16341" y="1961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438280" y="5943600"/>
            <a:ext cx="645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ff99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GB" sz="20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transparentnost.org.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00"/>
                </a:solidFill>
                <a:uFillTx/>
                <a:latin typeface="Arial"/>
                <a:hlinkClick r:id="rId3"/>
              </a:rPr>
              <a:t>http://www.transparency.org/research/cpi/overview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541520" y="2316240"/>
            <a:ext cx="633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Global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ndeks percepcije korupcije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(CPI) 20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ransparency Inter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5" descr="TI Logo wide ppt"/>
          <p:cNvPicPr/>
          <p:nvPr/>
        </p:nvPicPr>
        <p:blipFill>
          <a:blip r:embed="rId4"/>
          <a:stretch/>
        </p:blipFill>
        <p:spPr>
          <a:xfrm>
            <a:off x="2843280" y="617400"/>
            <a:ext cx="3735360" cy="9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Izvor podataka u inicijalnim istraživanjima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relevantnim za Srbiju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391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>
              <a:lnSpc>
                <a:spcPct val="11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09480" y="1193760"/>
          <a:ext cx="8177400" cy="5754600"/>
        </p:xfrm>
        <a:graphic>
          <a:graphicData uri="http://schemas.openxmlformats.org/drawingml/2006/table">
            <a:tbl>
              <a:tblPr/>
              <a:tblGrid>
                <a:gridCol w="381240"/>
                <a:gridCol w="3962160"/>
                <a:gridCol w="383400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zv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zor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H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edom House, Nations in Transit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ažanja nerezidenat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;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pitanici uglavnom potiču iz razvijenih zemalj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3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telsmann Foundation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 Transformation Index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U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onomist Intelligence Unit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 Insight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ountry Risk Rating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S ICRG (Political Risk Services International Country Risk Gui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učnjaci angažovani od strane bank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 institucij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F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ort of the World Economic Forum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Executive Opinion Survey) 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ažanja rezidenat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;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ispitanici su uglavnom lokalni stručnjaci, lokalni poslovni ljudi i multinacionalne fir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JP (World Justice Project Rule of Law Index)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kalni stručnjaci  i opsta populacij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609480" y="260280"/>
            <a:ext cx="824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PI 20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– bivša SFR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90720" y="1143000"/>
          <a:ext cx="6781680" cy="4962600"/>
        </p:xfrm>
        <a:graphic>
          <a:graphicData uri="http://schemas.openxmlformats.org/drawingml/2006/table">
            <a:tbl>
              <a:tblPr/>
              <a:tblGrid>
                <a:gridCol w="1207800"/>
                <a:gridCol w="2443320"/>
                <a:gridCol w="1203480"/>
                <a:gridCol w="1927080"/>
              </a:tblGrid>
              <a:tr h="1547640"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Ra</a:t>
                      </a:r>
                      <a:r>
                        <a:rPr b="1" i="1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ng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Zemlja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Skor 2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Broj istraživanja – CPI 20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65200"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43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Slovenija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Hrvatska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6</a:t>
                      </a:r>
                      <a:r>
                        <a:rPr b="1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7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Makedonija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Crna Gor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4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BiH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66"/>
                          </a:solidFill>
                          <a:latin typeface="Calibri"/>
                          <a:ea typeface="Arial"/>
                        </a:rPr>
                        <a:t>72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44b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66"/>
                          </a:solidFill>
                          <a:latin typeface="Calibri"/>
                          <a:ea typeface="Arial"/>
                        </a:rPr>
                        <a:t>Srbij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44b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66"/>
                          </a:solidFill>
                          <a:latin typeface="Calibri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44b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66"/>
                          </a:solidFill>
                          <a:latin typeface="Calibri"/>
                          <a:ea typeface="Arial"/>
                        </a:rPr>
                        <a:t>7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44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Ocene za Srbiju po izvorima 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za 2011, 20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i 20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godinu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14400" y="1600200"/>
          <a:ext cx="7543800" cy="5029200"/>
        </p:xfrm>
        <a:graphic>
          <a:graphicData uri="http://schemas.openxmlformats.org/drawingml/2006/table">
            <a:tbl>
              <a:tblPr/>
              <a:tblGrid>
                <a:gridCol w="2419200"/>
                <a:gridCol w="1744920"/>
                <a:gridCol w="1744560"/>
                <a:gridCol w="1635120"/>
              </a:tblGrid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CPI 2011</a:t>
                      </a: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 (po novoj metodologij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CPI 2012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CPI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B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E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F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PRS IC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W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WJ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Broj istra</a:t>
                      </a: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živ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Oc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Bivše socijalističke zemlje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Evrope </a:t>
            </a:r>
            <a:br>
              <a:rPr sz="2800"/>
            </a:b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(prema oceni na skali od 0 do 100)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Estoni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Poljska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Litvanija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Sloveni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Mađarsk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Letonij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ruzij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Češka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Hrvatsk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Slov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k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Makedonija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Crna Gora   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24280" y="1676160"/>
            <a:ext cx="3810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umunija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IH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rbija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Bugarska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Jermenija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Mold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ij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Albani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Bel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orusij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Rusi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Ukr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in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oređenj</a:t>
            </a: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402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2514600"/>
          <a:ext cx="3886200" cy="320040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</a:tblGrid>
              <a:tr h="800280"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Zeml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CPI 201</a:t>
                      </a: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CPI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99920"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Srb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Šri Lan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9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Liber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Bugars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</a:tr>
            </a:tbl>
          </a:graphicData>
        </a:graphic>
      </p:graphicFrame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Zemlje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sa kojima smo delili isti skor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 sada su iza nas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na listi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645080" y="2514600"/>
          <a:ext cx="4041720" cy="3200400"/>
        </p:xfrm>
        <a:graphic>
          <a:graphicData uri="http://schemas.openxmlformats.org/drawingml/2006/table">
            <a:tbl>
              <a:tblPr/>
              <a:tblGrid>
                <a:gridCol w="1347840"/>
                <a:gridCol w="1346040"/>
                <a:gridCol w="1347840"/>
              </a:tblGrid>
              <a:tr h="800280"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Zeml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CPI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CPI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99920"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Srb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K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9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Trinidad</a:t>
                      </a: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 i Tob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</a:tr>
            </a:tbl>
          </a:graphicData>
        </a:graphic>
      </p:graphicFrame>
      <p:sp>
        <p:nvSpPr>
          <p:cNvPr id="170" name="Text Placeholder 12"/>
          <p:cNvSpPr/>
          <p:nvPr/>
        </p:nvSpPr>
        <p:spPr>
          <a:xfrm>
            <a:off x="457200" y="1687680"/>
            <a:ext cx="38862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Zemlje koje su bile ispred nas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 sada su iza nas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na listi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Reakcije na dosadašnja rangiran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Podaci iz 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2000</a:t>
            </a: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-te: suočavanje sa katastrofalnom slikom o Srb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2003</a:t>
            </a: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: Očekivan veći pomak na listi, ali se percepcija sporo m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2004</a:t>
            </a: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: Napravljen novi pomak – približavanje realnom stanju stva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2005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2006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i 2007</a:t>
            </a: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: Zadržan minimalan trend rasta – nema radikalnih promena koje bi dovele do brze promene percepcije korup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08</a:t>
            </a: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agnacija</a:t>
            </a: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 – prvi put nema ni minimalnog napretka, druge zemlje nas sustižu ili prestiž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09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i="1" lang="sr-Latn-C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Simboličan napred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10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Stagnacija i očekivanje da će unapređenje zakonskog okvira doneti napredak u buduć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2011</a:t>
            </a: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: pad skora i nazadovanje na listi – u skladu sa utiskom domaćih ispitanika o odsustvu napre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12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iste ocene kao i prethodne god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13: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lagi napred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Rezultati CPI i Srbija 2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Zemlje mogu da ignorišu rezultate CPI samo na svoju štetu – čak i ako ne odražava u potpunosti realno stanje stvari, CPI je dobar pokazatelj onoga šta drugi misle o nama – nema mesta zadovoljstv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Srbija se i dalje smatra zemljom u kojoj je nivo korupcije visok, promene su slične onima u region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Utisak o visokoj raširenosti korupcije imaju i građani Srbije, što proizlazi iz rezultata istraživanja koja se vrše na nacionalnom uzorku (npr. Globalni barometar korupcij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Napredak je opažen u tri od sedam izvora koji su korišćeni za izradu C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Teme za razmišljanj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7200" indent="-277200" algn="just">
              <a:lnSpc>
                <a:spcPts val="2699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Koji je odnos percepcije korupcije i stvarnog nivoa korupcije? Kada se o korupciji mnogo govori to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može da dovede do porast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cepcije korupcije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, naročito kada nije praćeno neselektivnim i sistemskim merama za otklanjanje korupcije i rešavanje otvorenih afer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Ukoliko je priča o korupciji praćena konkretnim akcijama to može da na duži rok da utiče i na smanjivanje percepcije korup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 algn="just">
              <a:lnSpc>
                <a:spcPts val="2699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a li je moguće uticati na smanjenje percepcije korupcije izolovanim antikorupcijskim merama ili kampanjama? U najvećem broju slučajeva ne, zbog prirode istraživanja. Osim toga, prioritet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ržavnim organim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eba da bude sprečavanje, otkrivanje i kažnjavanje aktuelne korupcije, a ne promena utiska o nj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enoj rasprostranje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avni problemi Srbij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6212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4160" indent="-2541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ršenje usvojenih antikorupcijskih zakona i narušavanje pravne sigurnosti usvajanjem kontradiktornih ili nejasnih odred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dovoljni kapaciteti organa koji vrše nadzor i kontrolu nad primenom zakona; diskreciona ovlašćenja u određivanju predmeta prov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ma učenja na osnovu otkrivenih slučajeva korupcije i otkrivenih obrazaca koruptivnog ponaš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ninstitucionalna moć političkih stranaka koji se odražava na rad čitavog javnog sekto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dovoljno transparentan proces donošenja odluka, nemogućnost građana da utiču na njihov sadržaj i neuređeno lob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potrebne procedure i državne intervencije koje povećavaju broj situacija u kojima do korupcije može da dođ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ioriteti Srbije za borbu protiv korupcij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orba protiv korupcije može biti uspešna jedino ako je organizovana na sistemski način,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ko se primenjuju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ačela pravne države,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ko j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ad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stitucija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koordinira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z striktno poštovanje njihovih ustavnih i zakonskih nadležnosti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va Nacionalna strategija za borbu protiv korupcije i prateći Akcioni plan sadrže mnoga korisna rešenja, ali postavljeni ciljevi nisu dovoljno ambiciozni da bi doveli do korenitih promena, dok Strategija ne govori ništa o pojedinim veoma važnim pitanjima kao što su sadašnji sistem “koordinacije borbe protiv korupcije”, “lanac komandovanja” i odabir slučajeva kod ispitivanja krupnih afera i pitanje netransparentnih sporazuma i pregovaranja sa stranim državama, kreditorima i investitori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pl-PL" sz="3200" spc="-1" strike="noStrike">
                <a:solidFill>
                  <a:srgbClr val="ff0000"/>
                </a:solidFill>
                <a:latin typeface="Arial"/>
              </a:rPr>
              <a:t>Indeks percepcije korupcije za 2013</a:t>
            </a:r>
            <a:br>
              <a:rPr sz="3200"/>
            </a:b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160" y="15235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  <a:ea typeface="MS PGothic"/>
              </a:rPr>
              <a:t>Globalni </a:t>
            </a:r>
            <a:r>
              <a:rPr b="1" lang="en-US" sz="2400" spc="-1" strike="noStrike">
                <a:solidFill>
                  <a:srgbClr val="0070c0"/>
                </a:solidFill>
                <a:latin typeface="Arial Narrow"/>
                <a:ea typeface="MS PGothic"/>
              </a:rPr>
              <a:t>(177 </a:t>
            </a:r>
            <a:r>
              <a:rPr b="1" lang="en-GB" sz="2400" spc="-1" strike="noStrike">
                <a:solidFill>
                  <a:srgbClr val="0070c0"/>
                </a:solidFill>
                <a:latin typeface="Arial Narrow"/>
                <a:ea typeface="MS PGothic"/>
              </a:rPr>
              <a:t>država/teritorija</a:t>
            </a:r>
            <a:r>
              <a:rPr b="1" lang="en-US" sz="2400" spc="-1" strike="noStrike">
                <a:solidFill>
                  <a:srgbClr val="0070c0"/>
                </a:solidFill>
                <a:latin typeface="Arial Narrow"/>
                <a:ea typeface="MS PGothic"/>
              </a:rPr>
              <a:t>)</a:t>
            </a:r>
            <a:r>
              <a:rPr b="1" lang="en-US" sz="3200" spc="-1" strike="noStrike">
                <a:solidFill>
                  <a:srgbClr val="0070c0"/>
                </a:solidFill>
                <a:latin typeface="Arial Narrow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  <a:ea typeface="MS PGothic"/>
              </a:rPr>
              <a:t>agregatni Indeks </a:t>
            </a:r>
            <a:r>
              <a:rPr b="1" lang="en-US" sz="2400" spc="-1" strike="noStrike">
                <a:solidFill>
                  <a:srgbClr val="0070c0"/>
                </a:solidFill>
                <a:latin typeface="Arial Narrow"/>
                <a:ea typeface="MS PGothic"/>
              </a:rPr>
              <a:t>(</a:t>
            </a:r>
            <a:r>
              <a:rPr b="1" lang="en-GB" sz="2400" spc="-1" strike="noStrike">
                <a:solidFill>
                  <a:srgbClr val="0070c0"/>
                </a:solidFill>
                <a:latin typeface="Arial Narrow"/>
                <a:ea typeface="MS PGothic"/>
              </a:rPr>
              <a:t>do 13 različitih izvora podataka</a:t>
            </a:r>
            <a:r>
              <a:rPr b="1" lang="en-US" sz="2400" spc="-1" strike="noStrike">
                <a:solidFill>
                  <a:srgbClr val="0070c0"/>
                </a:solidFill>
                <a:latin typeface="Arial Narrow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 Narrow"/>
                <a:ea typeface="MS PGothic"/>
              </a:rPr>
              <a:t>koji meri opažanje </a:t>
            </a:r>
            <a:r>
              <a:rPr b="1" lang="en-US" sz="2400" spc="-1" strike="noStrike">
                <a:solidFill>
                  <a:srgbClr val="0070c0"/>
                </a:solidFill>
                <a:latin typeface="Arial Narrow"/>
                <a:ea typeface="MS PGothic"/>
              </a:rPr>
              <a:t>(</a:t>
            </a:r>
            <a:r>
              <a:rPr b="1" lang="en-GB" sz="2400" spc="-1" strike="noStrike">
                <a:solidFill>
                  <a:srgbClr val="0070c0"/>
                </a:solidFill>
                <a:latin typeface="Arial Narrow"/>
                <a:ea typeface="MS PGothic"/>
              </a:rPr>
              <a:t>eksperata</a:t>
            </a:r>
            <a:r>
              <a:rPr b="1" lang="en-US" sz="2400" spc="-1" strike="noStrike">
                <a:solidFill>
                  <a:srgbClr val="0070c0"/>
                </a:solidFill>
                <a:latin typeface="Arial Narrow"/>
                <a:ea typeface="MS PGothic"/>
              </a:rPr>
              <a:t>/</a:t>
            </a:r>
            <a:r>
              <a:rPr b="1" lang="en-GB" sz="2400" spc="-1" strike="noStrike">
                <a:solidFill>
                  <a:srgbClr val="0070c0"/>
                </a:solidFill>
                <a:latin typeface="Arial Narrow"/>
                <a:ea typeface="MS PGothic"/>
              </a:rPr>
              <a:t>poslovnih ljudi</a:t>
            </a:r>
            <a:r>
              <a:rPr b="1" lang="en-US" sz="2400" spc="-1" strike="noStrike">
                <a:solidFill>
                  <a:srgbClr val="0070c0"/>
                </a:solidFill>
                <a:latin typeface="Arial Narrow"/>
                <a:ea typeface="MS PGothic"/>
              </a:rPr>
              <a:t>)</a:t>
            </a:r>
            <a:r>
              <a:rPr b="1" lang="en-GB" sz="3200" spc="-1" strike="noStrike">
                <a:solidFill>
                  <a:srgbClr val="0070c0"/>
                </a:solidFill>
                <a:latin typeface="Arial Narrow"/>
                <a:ea typeface="MS PGothic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 Narrow"/>
                <a:ea typeface="MS PGothic"/>
              </a:rPr>
              <a:t>korupcije </a:t>
            </a:r>
            <a:r>
              <a:rPr b="1" lang="en-US" sz="2400" spc="-1" strike="noStrike">
                <a:solidFill>
                  <a:srgbClr val="0070c0"/>
                </a:solidFill>
                <a:latin typeface="Arial Narrow"/>
                <a:ea typeface="MS PGothic"/>
              </a:rPr>
              <a:t>(“zloupotreba javnih ovlašćenja za privatnu koris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  <a:ea typeface="MS PGothic"/>
              </a:rPr>
              <a:t>u javnom sektoru </a:t>
            </a:r>
            <a:r>
              <a:rPr b="1" lang="en-US" sz="2400" spc="-1" strike="noStrike">
                <a:solidFill>
                  <a:srgbClr val="0070c0"/>
                </a:solidFill>
                <a:latin typeface="Arial Narrow"/>
                <a:ea typeface="MS PGothic"/>
              </a:rPr>
              <a:t>(</a:t>
            </a:r>
            <a:r>
              <a:rPr b="1" lang="en-GB" sz="2400" spc="-1" strike="noStrike">
                <a:solidFill>
                  <a:srgbClr val="0070c0"/>
                </a:solidFill>
                <a:latin typeface="Arial Narrow"/>
                <a:ea typeface="MS PGothic"/>
              </a:rPr>
              <a:t>državni funkcioneri i javni službenici</a:t>
            </a:r>
            <a:r>
              <a:rPr b="1" lang="en-US" sz="2400" spc="-1" strike="noStrike">
                <a:solidFill>
                  <a:srgbClr val="0070c0"/>
                </a:solidFill>
                <a:latin typeface="Arial Narrow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ioriteti Srbije za borbu protiv korupcij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2960" indent="-2829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ezbeđenj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eće javnosti rada državnih organ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uključujući i pravila o javnim rasprava i lobiranju, povećanju javnosti podataka o radu Vlade, javnih preduzeća i drugih institucija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manjenje regulatornih i finansijskih intervencija drža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npr. dozvole, odobrenja, subvencije) koje stvaraju rizike za korupcij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meljna reforma uređenja javnog sek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štovanje i jačanj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loge nezavisnih državnih organ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 obezbeđenje primene njihovih odluka i preporu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ezbeđivanj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avnosti medijskog vlasništv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 finansiranja med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ioriteti Srbije za borbu protiv korupcij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8560" indent="-2685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zavisno, efikasno i odgovorno pravosuđ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aštit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zbunjivača i svedoka korupcije, proaktivni pristu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 istraživanju korupcije i mere z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ontrolu imovine javnih funkcionera i služb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iktn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ontrola tačnosti i potpunosti izveštaja o finansiranju kampanja i političkih stranak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ispitivanje sumnji i navoda o kupovini glasova na izborima i zloupotrebama javnih resursa u kampanj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šavanje svih slučajeva u kojima se sumnjalo u korupciju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z ranijih godin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uspostavljanje strukture državnog represivnog aparat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koja će omogućiti da se takve radnje otkriju i kazne u budućnosti, umesto sadašnjih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hanizama.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>
            <a:lum bright="70000" contrast="-70000"/>
          </a:blip>
          <a:srcRect l="10649" t="18753" r="12524" b="23441"/>
          <a:stretch/>
        </p:blipFill>
        <p:spPr>
          <a:xfrm>
            <a:off x="3240" y="1355760"/>
            <a:ext cx="9137520" cy="55022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38160" y="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NDEKS PERCEPCIJE KORUPCIJE 2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2"/>
          <a:srcRect l="10708" t="13282" r="70627" b="80055"/>
          <a:stretch/>
        </p:blipFill>
        <p:spPr>
          <a:xfrm>
            <a:off x="7010280" y="0"/>
            <a:ext cx="2133720" cy="609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"/>
          <p:cNvPicPr/>
          <p:nvPr/>
        </p:nvPicPr>
        <p:blipFill>
          <a:blip r:embed="rId3"/>
          <a:srcRect l="0" t="15223" r="0" b="0"/>
          <a:stretch/>
        </p:blipFill>
        <p:spPr>
          <a:xfrm>
            <a:off x="1143000" y="4932360"/>
            <a:ext cx="6705720" cy="16970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3"/>
          <p:cNvSpPr/>
          <p:nvPr/>
        </p:nvSpPr>
        <p:spPr>
          <a:xfrm>
            <a:off x="1523880" y="6324480"/>
            <a:ext cx="4191120" cy="228600"/>
          </a:xfrm>
          <a:prstGeom prst="rect">
            <a:avLst/>
          </a:prstGeom>
          <a:solidFill>
            <a:srgbClr val="1c1c1c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4"/>
          <a:stretch/>
        </p:blipFill>
        <p:spPr>
          <a:xfrm>
            <a:off x="1143000" y="1335240"/>
            <a:ext cx="6705720" cy="34876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"/>
          <p:cNvSpPr/>
          <p:nvPr/>
        </p:nvSpPr>
        <p:spPr>
          <a:xfrm>
            <a:off x="1295280" y="1523880"/>
            <a:ext cx="304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Opažanje nivoa korupcije u javnom sektoru 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MS PGothic"/>
              </a:rPr>
              <a:t> 177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ržava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MS PGothic"/>
              </a:rPr>
              <a:t>/t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itorija širom sveta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MS PGothi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1295280" y="2438280"/>
            <a:ext cx="2286000" cy="225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MS PGothic"/>
              </a:rPr>
              <a:t>GLOB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NI REZUL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MS PGothic"/>
              </a:rPr>
              <a:t>70%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zemalja ima ocenu manju od 50 od mogućih 100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MS PGothic"/>
              </a:rPr>
              <a:t>43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je prosečna ocena za ceo sv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NDEKS PERCEPCIJE KORUPCIJE 2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rcRect l="10708" t="13282" r="70627" b="80055"/>
          <a:stretch/>
        </p:blipFill>
        <p:spPr>
          <a:xfrm>
            <a:off x="7010280" y="0"/>
            <a:ext cx="213372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152280" y="1447920"/>
          <a:ext cx="1987560" cy="5303880"/>
        </p:xfrm>
        <a:graphic>
          <a:graphicData uri="http://schemas.openxmlformats.org/drawingml/2006/table">
            <a:tbl>
              <a:tblPr/>
              <a:tblGrid>
                <a:gridCol w="371520"/>
                <a:gridCol w="92160"/>
                <a:gridCol w="1073160"/>
                <a:gridCol w="450720"/>
              </a:tblGrid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  <a:ea typeface="MS PGothic"/>
                        </a:rPr>
                        <a:t>R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  <a:ea typeface="MS PGothic"/>
                        </a:rPr>
                        <a:t>COUNTRY/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  <a:ea typeface="MS PGothic"/>
                        </a:rPr>
                        <a:t>TERRIT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  <a:ea typeface="MS PGothic"/>
                        </a:rPr>
                        <a:t>S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8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Denm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New Zea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Fin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wed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Nor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ingap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Netherla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Austr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uxembou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Germ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Ice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United Kingd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Barb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Belg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Hong Ko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United States of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Ire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e Baha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F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aint Lu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2457360" y="1584360"/>
          <a:ext cx="1987560" cy="5121360"/>
        </p:xfrm>
        <a:graphic>
          <a:graphicData uri="http://schemas.openxmlformats.org/drawingml/2006/table">
            <a:tbl>
              <a:tblPr/>
              <a:tblGrid>
                <a:gridCol w="371520"/>
                <a:gridCol w="92160"/>
                <a:gridCol w="1073160"/>
                <a:gridCol w="450720"/>
              </a:tblGrid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Aust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United Arab Emir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Esto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Qa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Botsw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Bhut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ypr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Portu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Puerto 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aint Vincent and the Grenadi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Isra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aiw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Brune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Po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p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ape Ver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Domi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ithu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loven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al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outh Ko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Hung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eychel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atv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724280" y="1447920"/>
          <a:ext cx="1987560" cy="5303880"/>
        </p:xfrm>
        <a:graphic>
          <a:graphicData uri="http://schemas.openxmlformats.org/drawingml/2006/table">
            <a:tbl>
              <a:tblPr/>
              <a:tblGrid>
                <a:gridCol w="371520"/>
                <a:gridCol w="92160"/>
                <a:gridCol w="1073160"/>
                <a:gridCol w="450720"/>
              </a:tblGrid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  <a:ea typeface="MS PGothic"/>
                        </a:rPr>
                        <a:t>R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  <a:ea typeface="MS PGothic"/>
                        </a:rPr>
                        <a:t>COUNTRY/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  <a:ea typeface="MS PGothic"/>
                        </a:rPr>
                        <a:t>TERRIT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  <a:ea typeface="MS PGothic"/>
                        </a:rPr>
                        <a:t>S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83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Rwa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auriti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alay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ur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Geor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3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esot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Bahr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roa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3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zech Republ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Nami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Om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lovak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u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3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Gh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audi Ara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Jord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acedonia FY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3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onteneg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Ita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Kuwa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Rom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Bosnia and Herzegov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ao Tome and Princ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7080120" y="1584360"/>
          <a:ext cx="1987560" cy="5121360"/>
        </p:xfrm>
        <a:graphic>
          <a:graphicData uri="http://schemas.openxmlformats.org/drawingml/2006/table">
            <a:tbl>
              <a:tblPr/>
              <a:tblGrid>
                <a:gridCol w="371520"/>
                <a:gridCol w="92160"/>
                <a:gridCol w="1073160"/>
                <a:gridCol w="450720"/>
              </a:tblGrid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er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outh Af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Bulg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b050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eneg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uni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h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b050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Gree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wazi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Burkina Fa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El Salv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Jama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ib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ongo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Pe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rinidad and Toba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Za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alaw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oroc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ri Lan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Alg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Arme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Ben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Djibou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In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Philippi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uri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DEKS PERCEPCIJE KORUPCIJE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rcRect l="10708" t="13282" r="70627" b="80055"/>
          <a:stretch/>
        </p:blipFill>
        <p:spPr>
          <a:xfrm>
            <a:off x="7010280" y="0"/>
            <a:ext cx="213372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184320" y="1600200"/>
          <a:ext cx="1987560" cy="5121360"/>
        </p:xfrm>
        <a:graphic>
          <a:graphicData uri="http://schemas.openxmlformats.org/drawingml/2006/table">
            <a:tbl>
              <a:tblPr/>
              <a:tblGrid>
                <a:gridCol w="371160"/>
                <a:gridCol w="92160"/>
                <a:gridCol w="1073160"/>
                <a:gridCol w="451080"/>
              </a:tblGrid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  <a:ea typeface="MS PGothic"/>
                        </a:rPr>
                        <a:t>R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  <a:ea typeface="MS PGothic"/>
                        </a:rPr>
                        <a:t>COUNTRY/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  <a:ea typeface="MS PGothic"/>
                        </a:rPr>
                        <a:t>TERRIT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  <a:ea typeface="MS PGothic"/>
                        </a:rPr>
                        <a:t>S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oldo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Pan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ai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Gab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Ni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Ethiop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Koso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United Republic of Tanz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Egy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Indone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Alb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Nep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Vietn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aurit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ozamb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ierra Le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East Tim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Belar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Dominican Republ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2457360" y="1600200"/>
          <a:ext cx="1987560" cy="4819680"/>
        </p:xfrm>
        <a:graphic>
          <a:graphicData uri="http://schemas.openxmlformats.org/drawingml/2006/table">
            <a:tbl>
              <a:tblPr/>
              <a:tblGrid>
                <a:gridCol w="371520"/>
                <a:gridCol w="92160"/>
                <a:gridCol w="1193760"/>
                <a:gridCol w="330120"/>
              </a:tblGrid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o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Azerbai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3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mo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Ga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eb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adagasc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3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Pakist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Rus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Banglade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3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Ivory Co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Guy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Keny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Kazakhst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3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a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Uga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amero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entral African Republ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Ir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Nig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Papua New Guin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Ukra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730760" y="1600200"/>
          <a:ext cx="1987560" cy="4863960"/>
        </p:xfrm>
        <a:graphic>
          <a:graphicData uri="http://schemas.openxmlformats.org/drawingml/2006/table">
            <a:tbl>
              <a:tblPr/>
              <a:tblGrid>
                <a:gridCol w="371520"/>
                <a:gridCol w="92160"/>
                <a:gridCol w="1073160"/>
                <a:gridCol w="450720"/>
              </a:tblGrid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  <a:ea typeface="MS PGothic"/>
                        </a:rPr>
                        <a:t>R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  <a:ea typeface="MS PGothic"/>
                        </a:rPr>
                        <a:t>COUNTRY/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  <a:ea typeface="MS PGothic"/>
                        </a:rPr>
                        <a:t>TERRIT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  <a:ea typeface="MS PGothic"/>
                        </a:rPr>
                        <a:t>S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83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Guin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Kyrgyzst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Para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Ang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Republic of Con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Democratic Republic of the Con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ajikist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Burun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yan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Zimbabw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ambo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Erit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h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Equatorial Guin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Guinea Biss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Ha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3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Ye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y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urkmenist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7004160" y="1600200"/>
          <a:ext cx="1987560" cy="1625760"/>
        </p:xfrm>
        <a:graphic>
          <a:graphicData uri="http://schemas.openxmlformats.org/drawingml/2006/table">
            <a:tbl>
              <a:tblPr/>
              <a:tblGrid>
                <a:gridCol w="371520"/>
                <a:gridCol w="91800"/>
                <a:gridCol w="1073160"/>
                <a:gridCol w="451080"/>
              </a:tblGrid>
              <a:tr h="20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Uzbekist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Ira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iby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outh Sud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ud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363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Afghanist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363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North Ko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363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om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C:\Users\Bojana\AppData\Local\Temp\M. CPI2013_EasternEuropeandCentralAsia_english_embargoed-3-Dec.jpg"/>
          <p:cNvPicPr/>
          <p:nvPr/>
        </p:nvPicPr>
        <p:blipFill>
          <a:blip r:embed="rId1"/>
          <a:stretch/>
        </p:blipFill>
        <p:spPr>
          <a:xfrm>
            <a:off x="0" y="-228600"/>
            <a:ext cx="12382560" cy="791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Users\Bojana\AppData\Local\Temp\J. CPI2013_map-and-country-results_english_embargoed-3-Dec.jpg"/>
          <p:cNvPicPr/>
          <p:nvPr/>
        </p:nvPicPr>
        <p:blipFill>
          <a:blip r:embed="rId1"/>
          <a:stretch/>
        </p:blipFill>
        <p:spPr>
          <a:xfrm>
            <a:off x="0" y="0"/>
            <a:ext cx="10667880" cy="754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5181480" y="765000"/>
            <a:ext cx="3962160" cy="4876920"/>
            <a:chOff x="5181480" y="765000"/>
            <a:chExt cx="3962160" cy="4876920"/>
          </a:xfrm>
        </p:grpSpPr>
        <p:pic>
          <p:nvPicPr>
            <p:cNvPr id="134" name="Picture 3" descr="TI KENYA_KUBI_JAN2002_"/>
            <p:cNvPicPr/>
            <p:nvPr/>
          </p:nvPicPr>
          <p:blipFill>
            <a:blip r:embed="rId1"/>
            <a:stretch/>
          </p:blipFill>
          <p:spPr>
            <a:xfrm>
              <a:off x="5181480" y="765000"/>
              <a:ext cx="396216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4"/>
            <p:cNvSpPr/>
            <p:nvPr/>
          </p:nvSpPr>
          <p:spPr>
            <a:xfrm>
              <a:off x="5437440" y="765000"/>
              <a:ext cx="315396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8920" y="1676160"/>
            <a:ext cx="496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Meri stepen u ko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jem se opaža korumpiranost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 javnom sektoru (korumpiranosti državnih funkcionera i javnih službenika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Indeks se sačinjava na osnovu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 različitih istraživanja i studija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, koj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 ispituju mišljenj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 stručnjaka, predstavnika institucija i poslovnih lju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U 20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3 rangirano je ukupno 1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7 držav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/teritorij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, jedna više u odnosu na 20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Indeks percepcije korupcije za 20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Ciljevi CP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874872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Da se izmeri koliko prisustvo korupcije u javnom sektoru opažaju poslovni ljudi, stručnjaci i analitičari riz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Da se unapredi komparativno razumevanje nivoa korup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Da ponudi presek viđenja donosilaca odluka koje utiču na trgovinu i investi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PI 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je “agregatno istraživanje” (istraživanje grupe istraživanja), osmišljeno kako bi se prevazišli nedostaci svakog pojedinačnog istraživanja o korup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Da stimuliše naučna istraživanja, analize uzroka i posledica korupcije, na međunarodnom i domaćem pla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Da doprinese podizanju svesti o korupciji u javnosti – i stvori klimu za prom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1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Unapr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đenje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metodolog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ije CPI </a:t>
            </a:r>
            <a:br>
              <a:rPr sz="2400"/>
            </a:b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počev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od 2012. godin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520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CPI je istraživanje koje se odvija iz godine u godinu i pruža podatke koji se mogu kontinuirano pratiti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Minimum 3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istraživanja po zemlji/teritoriji da bi bila uvršćena na lis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I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raživanj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su objavljena u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prethod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h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4 mese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Zemlje se boduju na skali od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100 (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veoma ‘čiste’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o 0 (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veoma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korumpirane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, što omogućava detaljnije razvrstavanje (manji broj zemalja koje dele isti sk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Ispituje se percepcija (opažanje) a ne činjenice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 (npr. broj osuda, broj tekstova u mediji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HAND_~1A"/>
          <p:cNvPicPr/>
          <p:nvPr/>
        </p:nvPicPr>
        <p:blipFill>
          <a:blip r:embed="rId1"/>
          <a:stretch/>
        </p:blipFill>
        <p:spPr>
          <a:xfrm>
            <a:off x="5791320" y="5410080"/>
            <a:ext cx="2340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Mogućnost poređen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4978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2960" indent="-282960" algn="just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Indeks predstavlja presek viđenja poslovnih ljudi i analitičara prilika u pojedinim zemljama i ne odražava nužno trendove za pojedine go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 algn="just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Skor je relevantniji od mesta na tabeli (zato što se ponekada menja broj država/teritorija koje su uključe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 algn="just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Promene indeksa kod pojedinih država mogu biti rezultat promene uzorka – istraživanja koja su uzeta u obzir pri sačinjavanju indek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 algn="just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gućnost pore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đ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ja: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PI 2013 je moguće porediti sa CPI 2012 (skor neke zemlje/teritorije)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. Usled metodoloških promena nastalih 2012, mogućnost poređenja CPI 2013 sa rezultatima ranijih godina (starijim od CPI 2012 godine) je ograničena: može se porediti mesto na listi (uzimajući u obzir promene broja zemalja u uzorku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i k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tanje drugih zemalja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ili vršiti poređenje rezultata po pojedinim istraživanjima; nije metodološki ispravno automatski množiti skor iz prethodnih godina sa 10 ili deliti sadašnji sa 10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HAND_~1A"/>
          <p:cNvPicPr/>
          <p:nvPr/>
        </p:nvPicPr>
        <p:blipFill>
          <a:blip r:embed="rId1"/>
          <a:stretch/>
        </p:blipFill>
        <p:spPr>
          <a:xfrm>
            <a:off x="6324480" y="5715000"/>
            <a:ext cx="2340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pomene o n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edostaci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ma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 i prednosti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ma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 CP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208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720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Nedostaci/napome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Indeks ne odražava stepen napora uloženih u borbi protiv korupcije;  indeks ne odražava uvek postignute rezultate u borbi protiv korupcije, sve dok oni ne dovedu do uočljivih promena u prak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Zemlje u razvoju mogu biti prikazane u lošijem svetlu usled pristrasnosti i predubeđenja inostranih posmatrača. Zbog toga postoje i druga sredstva za merenje korupcije, npr. Indeks davalaca mi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0000"/>
                </a:solidFill>
                <a:latin typeface="Arial"/>
              </a:rPr>
              <a:t>Prednosti/napome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ts val="2699"/>
              </a:lnSpc>
              <a:spcAft>
                <a:spcPts val="6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0000"/>
                </a:solidFill>
                <a:latin typeface="Arial"/>
              </a:rPr>
              <a:t>I druga sredstva za procenu korupcije dovode do sličnih rezultata kao i C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100000"/>
              </a:lnSpc>
              <a:spcAft>
                <a:spcPts val="6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0000"/>
                </a:solidFill>
                <a:latin typeface="Arial"/>
              </a:rPr>
              <a:t>CPI je dobra šansa da se unapredi javna rasprava o korup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100000"/>
              </a:lnSpc>
              <a:spcAft>
                <a:spcPts val="6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0000"/>
                </a:solidFill>
                <a:latin typeface="Arial"/>
              </a:rPr>
              <a:t>CPI je dobar podsticaj za sprovođenje daljih anali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100000"/>
              </a:lnSpc>
              <a:spcAft>
                <a:spcPts val="6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0000"/>
                </a:solidFill>
                <a:latin typeface="Arial"/>
              </a:rPr>
              <a:t>CPI obuhvata gotovo sve države sv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CPI 2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- Najbolji i naj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o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š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ji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Rectangle 266"/>
          <p:cNvSpPr/>
          <p:nvPr/>
        </p:nvSpPr>
        <p:spPr>
          <a:xfrm>
            <a:off x="1500120" y="380988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Zemlje percipirane kao najkorumpiran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68"/>
          <p:cNvSpPr/>
          <p:nvPr/>
        </p:nvSpPr>
        <p:spPr>
          <a:xfrm>
            <a:off x="1214280" y="928800"/>
            <a:ext cx="678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Zemlje percipirane kao najmanje korumpir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371600" y="4267080"/>
          <a:ext cx="6629400" cy="2121120"/>
        </p:xfrm>
        <a:graphic>
          <a:graphicData uri="http://schemas.openxmlformats.org/drawingml/2006/table">
            <a:tbl>
              <a:tblPr/>
              <a:tblGrid>
                <a:gridCol w="888840"/>
                <a:gridCol w="2065320"/>
                <a:gridCol w="1974960"/>
                <a:gridCol w="17002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an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Zeml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or (0-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. istraživ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</a:tr>
              <a:tr h="371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ud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omali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j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verna Kor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vganis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371600" y="1447920"/>
          <a:ext cx="6629400" cy="2133360"/>
        </p:xfrm>
        <a:graphic>
          <a:graphicData uri="http://schemas.openxmlformats.org/drawingml/2006/table">
            <a:tbl>
              <a:tblPr/>
              <a:tblGrid>
                <a:gridCol w="781200"/>
                <a:gridCol w="2184120"/>
                <a:gridCol w="2076480"/>
                <a:gridCol w="1587600"/>
              </a:tblGrid>
              <a:tr h="382320">
                <a:tc>
                  <a:txBody>
                    <a:bodyPr lIns="55440" rIns="55440" tIns="27720" bIns="2772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a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Zeml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kor (0-10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. istraživ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911520">
                <a:tc>
                  <a:txBody>
                    <a:bodyPr lIns="55440" rIns="55440" tIns="27720" bIns="2772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440" marR="55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ans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vi Ze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9520">
                <a:tc>
                  <a:txBody>
                    <a:bodyPr lIns="55440" rIns="55440" tIns="27720" bIns="2772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440" marR="55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ins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Šveds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Metodološke napomene za Srbiju u CPI 2013.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bij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je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obuhvaćena u 7 istraživanja 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koja su uzeta u obzir pri sačinjavanju indek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Posmatrana teritorija Srbije bez Kosova i Metohije (istraživanja na osnovu kojih se sačinjava CPI se posebno rade i za ovu teritoriju i odražavaju percepciju o korumpiranosti tamošnjih javnih službi, tako da je Kosovo posebno rangirano na ovoj li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Istraživanja koja su relevantna za Srbiju su objavljena do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avgusta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2013.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Četiri istraživanja se odnose na 2013. godinu, dok tri sadrže u značajnoj meri i podatke iz 2012. 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Rangiranje po pojedinim istraživanjima kreće se od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6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 do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48. 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Standardna devijacija je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.4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) i omogućava visok stepen pouzdanosti</a:t>
            </a: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23:54:27Z</dcterms:created>
  <dc:creator>nemanja</dc:creator>
  <dc:description/>
  <dc:language>en-US</dc:language>
  <cp:lastModifiedBy>User</cp:lastModifiedBy>
  <cp:lastPrinted>2001-02-20T16:28:36Z</cp:lastPrinted>
  <dcterms:modified xsi:type="dcterms:W3CDTF">2014-04-01T08:34:46Z</dcterms:modified>
  <cp:revision>160</cp:revision>
  <dc:subject/>
  <dc:title>Slide 1</dc:title>
</cp:coreProperties>
</file>